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B4C36-C39D-4CB6-B26F-E28EAB8A4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06510-9C45-49CF-A13D-1384D3149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8103F-6127-47DE-9F5F-97F1D32DD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61E93E-8237-46FB-B020-CCC7AE215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72366-DC39-4FA9-8A6B-479725469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DE9B7-8FB3-48B5-A08C-F3BBC2320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716FF-8CEC-46EC-92F2-A136C8974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4500E-E2EA-43D4-ACC2-77DD8465C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2E786-8551-4849-8D01-B45C0CBCD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D2612-7A0F-45E1-A532-A072A7D86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0A401-F4C0-4E8D-B3B6-0A9B6EB9E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FA024-220F-4FAB-83F2-060F97C07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0B519-DE71-4DAC-8484-7C7CEC2105E5}"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841320" y="1981080"/>
            <a:ext cx="75110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HIEÁN LÖÔÏC TOÅNG THEÅ</a:t>
            </a: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647CBE4D-0897-4770-9581-53486833FB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ích hôïp theo chieàu doïc (Vertical Integration)</a:t>
            </a:r>
            <a:endParaRPr b="1" i="1" lang="en-US" sz="3400" spc="-1" strike="noStrike">
              <a:solidFill>
                <a:srgbClr val="ffff00"/>
              </a:solidFill>
              <a:latin typeface="VNI-Helve"/>
            </a:endParaRPr>
          </a:p>
        </p:txBody>
      </p:sp>
      <p:sp>
        <p:nvSpPr>
          <p:cNvPr id="115"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ích hôïp theo chieàu doïc veà phía sau (Backward Integration) laø tìm kieám quyeàn sôû höõu hoaëc quyeàn kieåm soaùt ñoái vôùi caùc nhaø cung caáp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ích hôïp theo chieàu doïc veà phía tröôùc (Forward Integration) laø tìm kieám quyeàn sôû höõu hoaëc quyeàn kieåm soaùt ñoái vôùi caùc phaân phoái saûn phaåm cuûa coâng ty.</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ABDD447-B54D-41ED-83B8-86268A11AA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ña daïng hoùa ñoàng taâm (Concentric Diversification)</a:t>
            </a:r>
            <a:endParaRPr b="1" i="1" lang="en-US" sz="3400" spc="-1" strike="noStrike">
              <a:solidFill>
                <a:srgbClr val="ffff00"/>
              </a:solidFill>
              <a:latin typeface="VNI-Helve"/>
            </a:endParaRPr>
          </a:p>
        </p:txBody>
      </p:sp>
      <p:sp>
        <p:nvSpPr>
          <p:cNvPr id="117"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ña daïng hoùa ñoâng taâm laø nhaèm môû roäng hoaït ñoäng kinh doanh ôû nhöõng lónh vöïc coù lieân quan veà coâng ngheä, thò tröôøng hôïac saûn phaåm</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êng ñieåm maïnh vaø cô hoäi kinh doanh, giaûm ñieåm yeáu vaø ruûi ro.</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0AD64D3-F073-42ED-90E9-07D65C55A2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ña daïng hoùa keát khoái (Conglomerate Diversific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9"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ña daïng hoùa keát khoái laø nhaèm môû roäng hoaït ñoäng kinh doanh baèng nhöõng saûn phaåm / dòch vuï môùi, khoâng lieân heä gì vôùi nha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i thaùc nguoàn löïc chung (synergy) ñeå laøm taêng lôïi theá caïnh tra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A6BA6E62-5507-410D-9612-DC40EC408A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lieân doanh </a:t>
            </a:r>
            <a:br>
              <a:rPr sz="3400"/>
            </a:br>
            <a:r>
              <a:rPr b="1" lang="en-US" sz="3400" spc="-1" strike="noStrike">
                <a:solidFill>
                  <a:srgbClr val="ffff00"/>
                </a:solidFill>
                <a:latin typeface="VNI-Helve"/>
              </a:rPr>
              <a:t>(Joint Venture)</a:t>
            </a:r>
            <a:endParaRPr b="1" i="1" lang="en-US" sz="3400" spc="-1" strike="noStrike">
              <a:solidFill>
                <a:srgbClr val="ffff00"/>
              </a:solidFill>
              <a:latin typeface="VNI-Helve"/>
            </a:endParaRPr>
          </a:p>
        </p:txBody>
      </p:sp>
      <p:sp>
        <p:nvSpPr>
          <p:cNvPr id="121"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ai hay nhieàu coâng ty thaønh laäp moät coâng ty hôïp danh nhaèm khai thaùc moät cô hoäi kinh doanh naøo ñoù hoaëc nhaèm taïo ñöôïc lôïi theá caïnh tranh naøo ño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a seû quyeàn söû duïng voá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vaø phaùt trieå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ôïp ñoàng phaân phoái saûn phaåm</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ôïp ñoàng chuyeån nhöôïng (Licensing)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18E76777-360A-49E4-83B6-DC0AE4C360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Lieân minh chieán löôïc </a:t>
            </a:r>
            <a:br>
              <a:rPr sz="3400"/>
            </a:br>
            <a:r>
              <a:rPr b="1" lang="en-US" sz="3400" spc="-1" strike="noStrike">
                <a:solidFill>
                  <a:srgbClr val="ffff00"/>
                </a:solidFill>
                <a:latin typeface="VNI-Helve"/>
              </a:rPr>
              <a:t>(Alliance)</a:t>
            </a:r>
            <a:endParaRPr b="1" i="1" lang="en-US" sz="3400" spc="-1" strike="noStrike">
              <a:solidFill>
                <a:srgbClr val="ffff00"/>
              </a:solidFill>
              <a:latin typeface="VNI-Helve"/>
            </a:endParaRPr>
          </a:p>
        </p:txBody>
      </p:sp>
      <p:sp>
        <p:nvSpPr>
          <p:cNvPr id="123"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ieân minh chieán löôïc nhaèm khai thaùc lôïi theá veø thò tröôøng, coâng ngheä, nguyeân lieäu, nguoàn lao ñoäng,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oûa thuaän cho pheùp khai thaùc (Licensing) baèng phaùt minh (Patents), thöông hieäu (Trademarks), hoaëc bí quyeát coâng ngheä (Know-how), … trong moät khoaûng thôøi gian naøo ño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oâng chia seû quyeàn sôû höõu voá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2D3F9E5-1E2E-4509-822E-6C8F11195B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uûng coá </a:t>
            </a:r>
            <a:br>
              <a:rPr sz="3400"/>
            </a:br>
            <a:r>
              <a:rPr b="1" lang="en-US" sz="3400" spc="-1" strike="noStrike">
                <a:solidFill>
                  <a:srgbClr val="ffff00"/>
                </a:solidFill>
                <a:latin typeface="VNI-Helve"/>
              </a:rPr>
              <a:t>(Turnaround / Retrenchment)</a:t>
            </a:r>
            <a:endParaRPr b="1" i="1" lang="en-US" sz="3400" spc="-1" strike="noStrike">
              <a:solidFill>
                <a:srgbClr val="ffff00"/>
              </a:solidFill>
              <a:latin typeface="VNI-Helve"/>
            </a:endParaRPr>
          </a:p>
        </p:txBody>
      </p:sp>
      <p:sp>
        <p:nvSpPr>
          <p:cNvPr id="12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uûng coá ñöôïc söû duïng ñeå toå chöùc laïi hoaït ñoäng kinh doanh cuûa coâng ty baèng vieäc caét giaûm chi phí vaø taøi saûn ñeå cöùu vaõn tình theá doanh soá vaø lôïi nhuaän ñang suït giaûm.</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ét giaûm chi phí, giaûm bôùt taøi saû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A42031E-7462-45E8-8A38-E89B41FC41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giaûm bôùt hoaït ñoäng (Divestiture)</a:t>
            </a:r>
            <a:endParaRPr b="1" i="1" lang="en-US" sz="3400" spc="-1" strike="noStrike">
              <a:solidFill>
                <a:srgbClr val="ffff00"/>
              </a:solidFill>
              <a:latin typeface="VNI-Helve"/>
            </a:endParaRPr>
          </a:p>
        </p:txBody>
      </p:sp>
      <p:sp>
        <p:nvSpPr>
          <p:cNvPr id="12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giaûm bôùt hoaït ñoäng nhaèm baùn bôùt moät boä phaän hay moät ñôn vò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êng voán cho hoaït ñoäng ñaàu tö hay mua laïi coù tính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6EEC6C9-AE21-4549-A3AF-52FDD81679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hanh lyù (Liquidation)</a:t>
            </a:r>
            <a:endParaRPr b="1" i="1" lang="en-US" sz="3400" spc="-1" strike="noStrike">
              <a:solidFill>
                <a:srgbClr val="ffff00"/>
              </a:solidFill>
              <a:latin typeface="VNI-Helve"/>
            </a:endParaRPr>
          </a:p>
        </p:txBody>
      </p:sp>
      <p:sp>
        <p:nvSpPr>
          <p:cNvPr id="12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Baùn töøng phaàn hoaëc toaøn boä taøi saûn cuûa coâng ty theo giaù trò thö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yeát ñònh chieán löôïc naøy giuùp giaûm thieåu thieät haïi/maát maùt cuûa nhöõng ñoái töôïng höõu qua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C67E220-CECB-4F42-ADF2-E4C505476C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SWOT (SWOT ANALYSIS)</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yõ thuaät phaân tích SWOT ñöôïc duøng ñeå ñaùnh giaù ñieåm maïnh, ñieåm yeáu cuûa coâng ty vaø öôùc löôïng nhöõng cô hoäi vaø nguy cô cuûa moâi tröôøng kinh doanh beân ngoaøi ñeå töø ñoù coù söï phoái hôïp thích hôïp giöõa khaû naêng nguoàn löïc cuûa Coâng ty vaø tình hình moâi tröô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15ABA3E-5AF3-4BCF-A685-8F96F82F7C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SWOT (SWOT ANALYSIS)</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3" name="PlaceHolder 2"/>
          <p:cNvSpPr>
            <a:spLocks noGrp="1"/>
          </p:cNvSpPr>
          <p:nvPr>
            <p:ph/>
          </p:nvPr>
        </p:nvSpPr>
        <p:spPr>
          <a:xfrm>
            <a:off x="457200" y="1294920"/>
            <a:ext cx="8305920" cy="541044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ieåm maïnh laø nhöõng gì maø coâng ty ñaõ laøm toát laøm toát hôn so vôùi coâng ty khaùc hoaëc chuùng giuùp laøm taêng khaû naêng caïnh tranh. </a:t>
            </a:r>
            <a:endParaRPr b="0" lang="en-US" sz="2400" spc="-1" strike="noStrike">
              <a:solidFill>
                <a:srgbClr val="000000"/>
              </a:solidFill>
              <a:latin typeface="VNI-Helv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öõng ñieåm yeáu laø nhöõng gì maø coâng ty thieáu/ khoâng coù hay thöïc hieän coøn keùm / chöa toát khi so vôùi coâng ty khaùc hoaëc nhöõng ñieàu laøm cho coâng ty maát lôïi theá caïnh tranh. </a:t>
            </a:r>
            <a:endParaRPr b="0" lang="en-US" sz="2400" spc="-1" strike="noStrike">
              <a:solidFill>
                <a:srgbClr val="000000"/>
              </a:solidFill>
              <a:latin typeface="VNI-Helv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ô hoäi kinh doanh laø nhöõng ñieàu kieän moâi tröôøng beân ngoaøi coù lôïi cho coâng ty. </a:t>
            </a:r>
            <a:endParaRPr b="0" lang="en-US" sz="2400" spc="-1" strike="noStrike">
              <a:solidFill>
                <a:srgbClr val="000000"/>
              </a:solidFill>
              <a:latin typeface="VNI-Helv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uy cô thò tröôøng laø nhöõng ñieàu kieän moâi tröôøng beân ngoaøi gaây baát lôïi cho coâng ty, coù aûnh höôûng ñeán khaû naêng sinh lôïi cuõng nhö vò trí treân thò tröôøng cuûa coâng ty.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3566D237-4B38-4B1A-A6FC-98ADC52D00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ôùi thieä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oaïi chieán löôïc toång theå</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ïa choïn chieán löôïc baèng ma traän SWO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BA8295E-2F10-42BC-BC46-70BDD9FED3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VNI-Helve"/>
              </a:rPr>
              <a:t>LÖÏA CHOÏN CAÙC PHÖÔNG AÙN CHIEÁN LÖÔÏC</a:t>
            </a:r>
            <a:br>
              <a:rPr sz="3000"/>
            </a:br>
            <a:r>
              <a:rPr b="1" lang="en-US" sz="3000" spc="-1" strike="noStrike">
                <a:solidFill>
                  <a:srgbClr val="ffff00"/>
                </a:solidFill>
                <a:latin typeface="VNI-Helve"/>
              </a:rPr>
              <a:t>BAÈNG MA TRAÄN SWOT</a:t>
            </a:r>
            <a:endParaRPr b="1" i="1" lang="en-US" sz="3000" spc="-1" strike="noStrike">
              <a:solidFill>
                <a:srgbClr val="ffff00"/>
              </a:solidFill>
              <a:latin typeface="VNI-Helve"/>
            </a:endParaRPr>
          </a:p>
        </p:txBody>
      </p:sp>
      <p:sp>
        <p:nvSpPr>
          <p:cNvPr id="135"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7000"/>
          </a:bodyPr>
          <a:p>
            <a:pPr marL="332640" indent="-3326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ùc ñònh caùc ñieåm maïnh, ñieåm yeáu, cô hoäi vaø nguy cô, lieät keâ töï theo möùc ñoä quan troïng vaøo caùc oâ töông öùng</a:t>
            </a:r>
            <a:endParaRPr b="0" lang="en-US" sz="2400" spc="-1" strike="noStrike">
              <a:solidFill>
                <a:srgbClr val="000000"/>
              </a:solidFill>
              <a:latin typeface="VNI-Helve"/>
            </a:endParaRPr>
          </a:p>
          <a:p>
            <a:pPr marL="332640" indent="-3326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ieán haønh phaân tích töøng caëp caùc nhoùm yeáu toá </a:t>
            </a:r>
            <a:r>
              <a:rPr b="0" lang="en-US" sz="2400" spc="-1" strike="noStrike">
                <a:solidFill>
                  <a:srgbClr val="000000"/>
                </a:solidFill>
                <a:latin typeface="Wingdings"/>
                <a:ea typeface="Wingdings"/>
              </a:rPr>
              <a:t></a:t>
            </a:r>
            <a:r>
              <a:rPr b="0" lang="en-US" sz="2400" spc="-1" strike="noStrike">
                <a:solidFill>
                  <a:srgbClr val="000000"/>
                </a:solidFill>
                <a:latin typeface="VNI-Helve"/>
              </a:rPr>
              <a:t> xaùc ñònh caùc phöông aùn chieán löôïc caàn xem xeùt</a:t>
            </a:r>
            <a:endParaRPr b="0" lang="en-US" sz="24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S-O : Xaây döïng phöông aùn chieán löôïc ñeå phaùt huy ñieåm maïnh vaø khai thaùc cô hoäi.</a:t>
            </a:r>
            <a:endParaRPr b="0" lang="en-US" sz="20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W-O : Xaây döïng phöông aùn chieán löôïc ñeå khaéc phuïc ñieåm yeáu vaø khai thaùc ñöôïc cô hoäi.</a:t>
            </a:r>
            <a:endParaRPr b="0" lang="en-US" sz="20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S-T : Xaây döïng phöông aùn chieán löôïc ñeå phaùt huy ñieåm maïnh vaø giaûm thieåu/ loaïi boû nguy cô.</a:t>
            </a:r>
            <a:endParaRPr b="0" lang="en-US" sz="20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W-T : Xaây döïng phöông aùn chieán löôïc ñeå khaéc phuïc ñieåm yeáu vaø giaûm thieåu/ loaïi boû nguy cô.</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2BD4F268-AC8E-4B24-BAC5-1765F0C3C7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794200" y="4683240"/>
            <a:ext cx="2592720" cy="17920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W-T: Caùc phöông aùn chieán löôïc khaéc phuïc ñieåm yeáu vaø giaûm thieåu/ loaïi boû nguy cô:</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37" name=""/>
          <p:cNvSpPr/>
          <p:nvPr/>
        </p:nvSpPr>
        <p:spPr>
          <a:xfrm>
            <a:off x="3201840" y="4683240"/>
            <a:ext cx="2592360" cy="17920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W-O: Caùc phöông aùn chieán löôïc khaéc phuïc ñieåm yeáu vaø khai thaùc cô hoäi:</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38" name=""/>
          <p:cNvSpPr/>
          <p:nvPr/>
        </p:nvSpPr>
        <p:spPr>
          <a:xfrm>
            <a:off x="609480" y="4683240"/>
            <a:ext cx="2592360" cy="17920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W: Lieät keâ caùc ñieåm yeáu chính cuûa Coâng ty:</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39" name=""/>
          <p:cNvSpPr/>
          <p:nvPr/>
        </p:nvSpPr>
        <p:spPr>
          <a:xfrm>
            <a:off x="5794200" y="3103560"/>
            <a:ext cx="259272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S-T: Caùc phöông aùn chieán löôïc phaùt huy ñieåm maïnh vaø giaûm thieåu/ loaïi boû nguy cô:</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40" name=""/>
          <p:cNvSpPr/>
          <p:nvPr/>
        </p:nvSpPr>
        <p:spPr>
          <a:xfrm>
            <a:off x="3201840" y="3103560"/>
            <a:ext cx="259236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S-O: Caùc phöông aùn chieán löôïc phaùt huy ñieåm maïnh vaø khai thaùc cô hoäi:</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41" name=""/>
          <p:cNvSpPr/>
          <p:nvPr/>
        </p:nvSpPr>
        <p:spPr>
          <a:xfrm>
            <a:off x="609480" y="3103560"/>
            <a:ext cx="259236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S: Lieät keâ caùc ñieåm maïnh chính cuûa Coâng ty:</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42" name=""/>
          <p:cNvSpPr/>
          <p:nvPr/>
        </p:nvSpPr>
        <p:spPr>
          <a:xfrm>
            <a:off x="5794200" y="1523880"/>
            <a:ext cx="259272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T: Lieät keâ nhöõng nguy cô chính:</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43" name=""/>
          <p:cNvSpPr/>
          <p:nvPr/>
        </p:nvSpPr>
        <p:spPr>
          <a:xfrm>
            <a:off x="3201840" y="1523880"/>
            <a:ext cx="259236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O: Lieät keâ nhöõng cô hoäi kinh doanh chính:</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44" name=""/>
          <p:cNvSpPr/>
          <p:nvPr/>
        </p:nvSpPr>
        <p:spPr>
          <a:xfrm>
            <a:off x="609480" y="1523880"/>
            <a:ext cx="2592360" cy="1579680"/>
          </a:xfrm>
          <a:prstGeom prst="rect">
            <a:avLst/>
          </a:prstGeom>
          <a:solidFill>
            <a:srgbClr val="ccffcc"/>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609480" y="152388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09480" y="647532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0948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838692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09480" y="310356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20184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79420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09480" y="468324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a traän SWO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54" name=""/>
          <p:cNvSpPr/>
          <p:nvPr/>
        </p:nvSpPr>
        <p:spPr>
          <a:xfrm>
            <a:off x="660240" y="2332080"/>
            <a:ext cx="1428840" cy="71604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NI-Helve"/>
              </a:rPr>
              <a:t>Moâi tröôøng beân trong</a:t>
            </a:r>
            <a:endParaRPr b="0" lang="en-US" sz="1600" spc="-1" strike="noStrike">
              <a:solidFill>
                <a:srgbClr val="000000"/>
              </a:solidFill>
              <a:latin typeface="Times New Roman"/>
            </a:endParaRPr>
          </a:p>
        </p:txBody>
      </p:sp>
      <p:sp>
        <p:nvSpPr>
          <p:cNvPr id="155" name=""/>
          <p:cNvSpPr/>
          <p:nvPr/>
        </p:nvSpPr>
        <p:spPr>
          <a:xfrm>
            <a:off x="1757520" y="1631880"/>
            <a:ext cx="1428480" cy="88272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NI-Helve"/>
              </a:rPr>
              <a:t>Moâi tröôøng beân ngoaøi</a:t>
            </a:r>
            <a:endParaRPr b="0" lang="en-US" sz="1600" spc="-1" strike="noStrike">
              <a:solidFill>
                <a:srgbClr val="000000"/>
              </a:solidFill>
              <a:latin typeface="Times New Roman"/>
            </a:endParaRPr>
          </a:p>
        </p:txBody>
      </p:sp>
      <p:sp>
        <p:nvSpPr>
          <p:cNvPr id="156" name=""/>
          <p:cNvSpPr/>
          <p:nvPr/>
        </p:nvSpPr>
        <p:spPr>
          <a:xfrm>
            <a:off x="609480" y="1523880"/>
            <a:ext cx="2590920" cy="155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06320" y="954000"/>
            <a:ext cx="259236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158" name=""/>
          <p:cNvSpPr/>
          <p:nvPr/>
        </p:nvSpPr>
        <p:spPr>
          <a:xfrm>
            <a:off x="1911960" y="954000"/>
            <a:ext cx="180720" cy="116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5E164C07-60E3-4CC7-9AE4-4C93339991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DANH MUÏC ÑAÀU TÖ</a:t>
            </a:r>
            <a:br>
              <a:rPr sz="3400"/>
            </a:br>
            <a:r>
              <a:rPr b="1" lang="en-US" sz="3400" spc="-1" strike="noStrike">
                <a:solidFill>
                  <a:srgbClr val="ffff00"/>
                </a:solidFill>
                <a:latin typeface="VNI-Helve"/>
              </a:rPr>
              <a:t>MA TRAÄN BCG </a:t>
            </a:r>
            <a:endParaRPr b="1" i="1" lang="en-US" sz="3400" spc="-1" strike="noStrike">
              <a:solidFill>
                <a:srgbClr val="ffff00"/>
              </a:solidFill>
              <a:latin typeface="VNI-Helve"/>
            </a:endParaRPr>
          </a:p>
        </p:txBody>
      </p:sp>
      <p:sp>
        <p:nvSpPr>
          <p:cNvPr id="160" name="PlaceHolder 2"/>
          <p:cNvSpPr>
            <a:spLocks noGrp="1"/>
          </p:cNvSpPr>
          <p:nvPr>
            <p:ph/>
          </p:nvPr>
        </p:nvSpPr>
        <p:spPr>
          <a:xfrm>
            <a:off x="457200" y="1371600"/>
            <a:ext cx="830592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nhaän ra nhu caàu doøng tieàn (cashflow) cuûa caùc SBU khaùc nhau treân danh muïc voán ñaàu tö.</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aùc ñònh vaø ñaùnh giaù caùc SBU cuûa coâng ty</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ô sôû xaùc ñònh </a:t>
            </a:r>
            <a:r>
              <a:rPr b="0" lang="en-US" sz="2400" spc="-1" strike="noStrike">
                <a:solidFill>
                  <a:srgbClr val="000000"/>
                </a:solidFill>
                <a:latin typeface="Wingdings"/>
                <a:ea typeface="Wingdings"/>
              </a:rPr>
              <a:t></a:t>
            </a:r>
            <a:r>
              <a:rPr b="0" lang="en-US" sz="2400" spc="-1" strike="noStrike">
                <a:solidFill>
                  <a:srgbClr val="000000"/>
                </a:solidFill>
                <a:latin typeface="VNI-Helve"/>
              </a:rPr>
              <a:t> Thò tröôøng vaø saûn phaåm</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aùnh giaù: </a:t>
            </a:r>
            <a:endParaRPr b="0" lang="en-US" sz="2400" spc="-1" strike="noStrike">
              <a:solidFill>
                <a:srgbClr val="000000"/>
              </a:solidFill>
              <a:latin typeface="VNI-Helve"/>
            </a:endParaRPr>
          </a:p>
          <a:p>
            <a:pPr lvl="2" marL="1143000" indent="-228600">
              <a:spcBef>
                <a:spcPts val="499"/>
              </a:spcBef>
              <a:buClr>
                <a:srgbClr val="ff66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ò phaàn töông ñoái</a:t>
            </a:r>
            <a:endParaRPr b="0" lang="en-US" sz="2000" spc="-1" strike="noStrike">
              <a:solidFill>
                <a:srgbClr val="000000"/>
              </a:solidFill>
              <a:latin typeface="VNI-Helve"/>
            </a:endParaRPr>
          </a:p>
          <a:p>
            <a:pPr lvl="2" marL="1143000" indent="-228600">
              <a:spcBef>
                <a:spcPts val="499"/>
              </a:spcBef>
              <a:buClr>
                <a:srgbClr val="ff66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æ leä taêng tröôûng cuûa SBU</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E823E662-15BC-463B-8C9A-34461AE6C2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DANH MUÏC ÑAÀU TÖ</a:t>
            </a:r>
            <a:br>
              <a:rPr sz="3400"/>
            </a:br>
            <a:r>
              <a:rPr b="1" lang="en-US" sz="3400" spc="-1" strike="noStrike">
                <a:solidFill>
                  <a:srgbClr val="ffff00"/>
                </a:solidFill>
                <a:latin typeface="VNI-Helve"/>
              </a:rPr>
              <a:t>MA TRAÄN BCG </a:t>
            </a:r>
            <a:endParaRPr b="1" i="1" lang="en-US" sz="3400" spc="-1" strike="noStrike">
              <a:solidFill>
                <a:srgbClr val="ffff00"/>
              </a:solidFill>
              <a:latin typeface="VNI-Helve"/>
            </a:endParaRPr>
          </a:p>
        </p:txBody>
      </p:sp>
      <p:sp>
        <p:nvSpPr>
          <p:cNvPr id="162" name="PlaceHolder 2"/>
          <p:cNvSpPr>
            <a:spLocks noGrp="1"/>
          </p:cNvSpPr>
          <p:nvPr>
            <p:ph/>
          </p:nvPr>
        </p:nvSpPr>
        <p:spPr>
          <a:xfrm>
            <a:off x="457200" y="1371600"/>
            <a:ext cx="8305920" cy="5029200"/>
          </a:xfrm>
          <a:prstGeom prst="rect">
            <a:avLst/>
          </a:prstGeom>
          <a:noFill/>
          <a:ln w="0">
            <a:noFill/>
          </a:ln>
        </p:spPr>
        <p:txBody>
          <a:bodyPr lIns="90000" rIns="90000" tIns="46800" bIns="46800" anchor="t">
            <a:normAutofit fontScale="92000"/>
          </a:bodyPr>
          <a:p>
            <a:pPr marL="315360" indent="-31536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caùc SBU treân moät ma traän, chæ roõ trieån voïng töông ñoái cuûa töøng SBU</a:t>
            </a:r>
            <a:endParaRPr b="0" lang="en-US" sz="2800" spc="-1" strike="noStrike">
              <a:solidFill>
                <a:srgbClr val="000000"/>
              </a:solidFill>
              <a:latin typeface="VNI-Helve"/>
            </a:endParaRPr>
          </a:p>
          <a:p>
            <a:pPr marL="315360" indent="-31536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 taû ma traän: </a:t>
            </a:r>
            <a:endParaRPr b="0" lang="en-US" sz="28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a traän vuoâng caáp 2,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ung hoaønh bieåu dieãn thò phaàn töông ñoái,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uïc tung bieåu dieãn tæ leä taêng tröôûng cuûa thò tröôøng</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oãi voøng troøn treân ma traän laø 1 SBU.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âm voøng troøn laø vò theá cuûa SBU ñöôïc xaùc ñònh baèng Thò phaàn töông ñoái vaø Tæ leä taêng tröôûng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oä lôùn cuûa voøng troøn töông öùng vôùi doanh thu.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8F1543D-E5DC-4728-8C68-2BF082C055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DANH MUÏC ÑAÀU TÖ</a:t>
            </a:r>
            <a:br>
              <a:rPr sz="3400"/>
            </a:br>
            <a:r>
              <a:rPr b="1" lang="en-US" sz="3400" spc="-1" strike="noStrike">
                <a:solidFill>
                  <a:srgbClr val="ffff00"/>
                </a:solidFill>
                <a:latin typeface="VNI-Helve"/>
              </a:rPr>
              <a:t>MA TRAÄN BCG </a:t>
            </a:r>
            <a:endParaRPr b="1" i="1" lang="en-US" sz="3400" spc="-1" strike="noStrike">
              <a:solidFill>
                <a:srgbClr val="ffff00"/>
              </a:solidFill>
              <a:latin typeface="VNI-Helve"/>
            </a:endParaRPr>
          </a:p>
        </p:txBody>
      </p:sp>
      <p:sp>
        <p:nvSpPr>
          <p:cNvPr id="164" name=""/>
          <p:cNvSpPr/>
          <p:nvPr/>
        </p:nvSpPr>
        <p:spPr>
          <a:xfrm>
            <a:off x="1971720" y="5715000"/>
            <a:ext cx="61815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NI-Helve"/>
              </a:rPr>
              <a:t>Vò trí thò phaàn töông ñoái trong ngaønh</a:t>
            </a:r>
            <a:endParaRPr b="0" lang="en-US" sz="2000" spc="-1" strike="noStrike">
              <a:solidFill>
                <a:srgbClr val="000000"/>
              </a:solidFill>
              <a:latin typeface="Times New Roman"/>
            </a:endParaRPr>
          </a:p>
        </p:txBody>
      </p:sp>
      <p:sp>
        <p:nvSpPr>
          <p:cNvPr id="165" name=""/>
          <p:cNvSpPr/>
          <p:nvPr/>
        </p:nvSpPr>
        <p:spPr>
          <a:xfrm>
            <a:off x="325440" y="2720880"/>
            <a:ext cx="1238400" cy="1622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NI-Helve"/>
              </a:rPr>
              <a:t>Toác ñoä taêng tröôûng baùn haøng cuûa ngaønh</a:t>
            </a:r>
            <a:endParaRPr b="0" lang="en-US" sz="1600" spc="-1" strike="noStrike">
              <a:solidFill>
                <a:srgbClr val="000000"/>
              </a:solidFill>
              <a:latin typeface="Times New Roman"/>
            </a:endParaRPr>
          </a:p>
        </p:txBody>
      </p:sp>
      <p:graphicFrame>
        <p:nvGraphicFramePr>
          <p:cNvPr id="166" name=""/>
          <p:cNvGraphicFramePr/>
          <p:nvPr/>
        </p:nvGraphicFramePr>
        <p:xfrm>
          <a:off x="2081160" y="1635120"/>
          <a:ext cx="5962680" cy="4097160"/>
        </p:xfrm>
        <a:graphic>
          <a:graphicData uri="http://schemas.openxmlformats.org/drawingml/2006/table">
            <a:tbl>
              <a:tblPr/>
              <a:tblGrid>
                <a:gridCol w="3079800"/>
                <a:gridCol w="2882880"/>
              </a:tblGrid>
              <a:tr h="1869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r>
              <a:tr h="222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r>
            </a:tbl>
          </a:graphicData>
        </a:graphic>
      </p:graphicFrame>
      <p:pic>
        <p:nvPicPr>
          <p:cNvPr id="167" name="" descr=""/>
          <p:cNvPicPr/>
          <p:nvPr/>
        </p:nvPicPr>
        <p:blipFill>
          <a:blip r:embed="rId1"/>
          <a:stretch/>
        </p:blipFill>
        <p:spPr>
          <a:xfrm>
            <a:off x="2506680" y="1746360"/>
            <a:ext cx="2208240" cy="1585800"/>
          </a:xfrm>
          <a:prstGeom prst="rect">
            <a:avLst/>
          </a:prstGeom>
          <a:ln w="0">
            <a:noFill/>
          </a:ln>
        </p:spPr>
      </p:pic>
      <p:pic>
        <p:nvPicPr>
          <p:cNvPr id="168" name="" descr=""/>
          <p:cNvPicPr/>
          <p:nvPr/>
        </p:nvPicPr>
        <p:blipFill>
          <a:blip r:embed="rId2"/>
          <a:stretch/>
        </p:blipFill>
        <p:spPr>
          <a:xfrm>
            <a:off x="2540160" y="3689280"/>
            <a:ext cx="2179440" cy="1405080"/>
          </a:xfrm>
          <a:prstGeom prst="rect">
            <a:avLst/>
          </a:prstGeom>
          <a:ln w="0">
            <a:noFill/>
          </a:ln>
        </p:spPr>
      </p:pic>
      <p:pic>
        <p:nvPicPr>
          <p:cNvPr id="169" name="" descr=""/>
          <p:cNvPicPr/>
          <p:nvPr/>
        </p:nvPicPr>
        <p:blipFill>
          <a:blip r:embed="rId3"/>
          <a:stretch/>
        </p:blipFill>
        <p:spPr>
          <a:xfrm>
            <a:off x="5676840" y="3697200"/>
            <a:ext cx="1965240" cy="1540080"/>
          </a:xfrm>
          <a:prstGeom prst="rect">
            <a:avLst/>
          </a:prstGeom>
          <a:ln w="0">
            <a:noFill/>
          </a:ln>
        </p:spPr>
      </p:pic>
      <p:pic>
        <p:nvPicPr>
          <p:cNvPr id="170" name="" descr=""/>
          <p:cNvPicPr/>
          <p:nvPr/>
        </p:nvPicPr>
        <p:blipFill>
          <a:blip r:embed="rId4"/>
          <a:stretch/>
        </p:blipFill>
        <p:spPr>
          <a:xfrm>
            <a:off x="5821200" y="1816200"/>
            <a:ext cx="1497240" cy="1466640"/>
          </a:xfrm>
          <a:prstGeom prst="rect">
            <a:avLst/>
          </a:prstGeom>
          <a:ln w="0">
            <a:noFill/>
          </a:ln>
        </p:spPr>
      </p:pic>
      <p:sp>
        <p:nvSpPr>
          <p:cNvPr id="3" name="PlaceHolder 2"/>
          <p:cNvSpPr>
            <a:spLocks noGrp="1"/>
          </p:cNvSpPr>
          <p:nvPr>
            <p:ph type="sldNum" idx="3"/>
          </p:nvPr>
        </p:nvSpPr>
        <p:spPr/>
        <p:txBody>
          <a:bodyPr/>
          <a:p>
            <a:fld id="{3B9EC645-5B78-4872-9D28-C72B126003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rieån khai caùc muïc tieâu taêng tröôûng cho töøng SBU </a:t>
            </a:r>
            <a:endParaRPr b="1" i="1" lang="en-US" sz="3400" spc="-1" strike="noStrike">
              <a:solidFill>
                <a:srgbClr val="ffff00"/>
              </a:solidFill>
              <a:latin typeface="VNI-Helve"/>
            </a:endParaRPr>
          </a:p>
        </p:txBody>
      </p:sp>
      <p:sp>
        <p:nvSpPr>
          <p:cNvPr id="17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ôïi nhuaän caùc SBU boø sinh lôïi </a:t>
            </a:r>
            <a:r>
              <a:rPr b="0" lang="en-US" sz="2800" spc="-1" strike="noStrike">
                <a:solidFill>
                  <a:srgbClr val="000000"/>
                </a:solidFill>
                <a:latin typeface="Wingdings"/>
                <a:ea typeface="Wingdings"/>
              </a:rPr>
              <a:t></a:t>
            </a:r>
            <a:r>
              <a:rPr b="0" lang="en-US" sz="2800" spc="-1" strike="noStrike">
                <a:solidFill>
                  <a:srgbClr val="000000"/>
                </a:solidFill>
                <a:latin typeface="VNI-Helve"/>
              </a:rPr>
              <a:t> SBU daáu hoûi vaø ngoâi sao</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BU daáu hoûi khoâng coù trieån voïng </a:t>
            </a:r>
            <a:r>
              <a:rPr b="0" lang="en-US" sz="2800" spc="-1" strike="noStrike">
                <a:solidFill>
                  <a:srgbClr val="000000"/>
                </a:solidFill>
                <a:latin typeface="Wingdings"/>
                <a:ea typeface="Wingdings"/>
              </a:rPr>
              <a:t></a:t>
            </a:r>
            <a:r>
              <a:rPr b="0" lang="en-US" sz="2800" spc="-1" strike="noStrike">
                <a:solidFill>
                  <a:srgbClr val="000000"/>
                </a:solidFill>
                <a:latin typeface="VNI-Helve"/>
              </a:rPr>
              <a:t> giaûi theå</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BU chuù choù </a:t>
            </a:r>
            <a:r>
              <a:rPr b="0" lang="en-US" sz="2800" spc="-1" strike="noStrike">
                <a:solidFill>
                  <a:srgbClr val="000000"/>
                </a:solidFill>
                <a:latin typeface="Wingdings"/>
                <a:ea typeface="Wingdings"/>
              </a:rPr>
              <a:t></a:t>
            </a:r>
            <a:r>
              <a:rPr b="0" lang="en-US" sz="2800" spc="-1" strike="noStrike">
                <a:solidFill>
                  <a:srgbClr val="000000"/>
                </a:solidFill>
                <a:latin typeface="VNI-Helve"/>
              </a:rPr>
              <a:t> </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uïc hoài</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oaïch</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ûi theå (raøo caûn xuaát ngaønh)</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aây döïng danh muïc ñaàu tö caân ñoái</a:t>
            </a:r>
            <a:endParaRPr b="0" lang="en-US" sz="2800" spc="-1" strike="noStrike">
              <a:solidFill>
                <a:srgbClr val="000000"/>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CC0A1B9-4766-4BC8-824C-9E77627C82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AÙNH GIAÙ CHIEÁN LÖÔÏC ÑÖÔÏC LÖÏA CHOÏN </a:t>
            </a:r>
            <a:endParaRPr b="1" i="1" lang="en-US" sz="3400" spc="-1" strike="noStrike">
              <a:solidFill>
                <a:srgbClr val="ffff00"/>
              </a:solidFill>
              <a:latin typeface="VNI-Helve"/>
            </a:endParaRPr>
          </a:p>
        </p:txBody>
      </p:sp>
      <p:sp>
        <p:nvSpPr>
          <p:cNvPr id="17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ñaït ñöôïc muïc tieâu</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phaùt huy naêng löïc khaùc bieät vaø khai thaùc lôïi theá caïnh tranh</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linh hoaït vaø khaû naêng ñaùp öùng/thích nghi vôùi söï thay ñoåi cuûa moâi tröôøng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733CCB6-3E67-4AF7-8090-4861F14887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OÄT SOÁ YEÁU TOÁ AÛNH HÖÔÛNG ÑEÁN VIEÄC LÖÏA CHOÏN CHIEÁN LÖÔÏC</a:t>
            </a:r>
            <a:endParaRPr b="1" i="1" lang="en-US" sz="3400" spc="-1" strike="noStrike">
              <a:solidFill>
                <a:srgbClr val="ffff00"/>
              </a:solidFill>
              <a:latin typeface="VNI-Helve"/>
            </a:endParaRPr>
          </a:p>
        </p:txBody>
      </p:sp>
      <p:sp>
        <p:nvSpPr>
          <p:cNvPr id="17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rong quaù khöù</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phuï thuoäc vaøo caùc taùc löïc beân ngoaøi</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ùi ñoä ñoái vôùi ruûi ro</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 chính trò noäi boä</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ôøi gian</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ûn öùng ñoái vôùi caïnh tranh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A0A459D2-2E9C-48A4-890B-2A29629FB9C9}"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OÂNG TY</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3 vaán ñeà quan troïng cuûa chieán löôïc coâng ty</a:t>
            </a:r>
            <a:endParaRPr b="0" lang="en-US" sz="2800" spc="-1" strike="noStrike">
              <a:solidFill>
                <a:srgbClr val="000000"/>
              </a:solidFill>
              <a:latin typeface="VNI-Helve"/>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ònh höôùng hoaït ñoäng cuûa coâng ty theo höôùng taêng tröôûng (growth), duy trì söï oån ñònh (stability) hay thu heïp hoaït ñoäng (retrenchment)</a:t>
            </a:r>
            <a:endParaRPr b="0" lang="en-US" sz="2400" spc="-1" strike="noStrike">
              <a:solidFill>
                <a:srgbClr val="000000"/>
              </a:solidFill>
              <a:latin typeface="VNI-Helve"/>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Quyeát ñònh danh muïc ñaàu tö cuûa coâng ty</a:t>
            </a:r>
            <a:endParaRPr b="0" lang="en-US" sz="2400" spc="-1" strike="noStrike">
              <a:solidFill>
                <a:srgbClr val="000000"/>
              </a:solidFill>
              <a:latin typeface="VNI-Helve"/>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ây döïng caùch thöùc phoái hôïp hoaït ñoäng, chuyeån giao nguoàn löïc giöõa caùc ñôn vò kinh doanh, xaây döïng vaø boå sung nguoàn löïc caàn thieát.</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F3802D20-4786-41AE-9AB0-BE181C4852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AÙC CHIEÁN LÖÔÏC TOÅNG THEÅ</a:t>
            </a:r>
            <a:endParaRPr b="1" i="1" lang="en-US" sz="3400" spc="-1" strike="noStrike">
              <a:solidFill>
                <a:srgbClr val="ffff00"/>
              </a:solidFill>
              <a:latin typeface="VNI-Helve"/>
            </a:endParaRPr>
          </a:p>
        </p:txBody>
      </p:sp>
      <p:sp>
        <p:nvSpPr>
          <p:cNvPr id="93" name=""/>
          <p:cNvSpPr/>
          <p:nvPr/>
        </p:nvSpPr>
        <p:spPr>
          <a:xfrm>
            <a:off x="2933640" y="1219320"/>
            <a:ext cx="3086280" cy="1447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AÊNG TRÖÔÛNG  TAÄP TRU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NCENT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haâm nhaäp thò tröôøng (Market Penet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Phaùt trieån thò tröôøng (Market Development)</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Phaùt trieån saûn phaåm (Product Development)</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aûi tieán saûn phaåm (Product Innovation)</a:t>
            </a:r>
            <a:endParaRPr b="0" lang="en-US" sz="1200" spc="-1" strike="noStrike">
              <a:solidFill>
                <a:srgbClr val="000000"/>
              </a:solidFill>
              <a:latin typeface="Times New Roman"/>
            </a:endParaRPr>
          </a:p>
        </p:txBody>
      </p:sp>
      <p:sp>
        <p:nvSpPr>
          <p:cNvPr id="94" name=""/>
          <p:cNvSpPr/>
          <p:nvPr/>
        </p:nvSpPr>
        <p:spPr>
          <a:xfrm>
            <a:off x="152280" y="3108240"/>
            <a:ext cx="2667240" cy="16160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INTEG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chieàu nga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a:t>
            </a:r>
            <a:r>
              <a:rPr b="0" lang="en-US" sz="1200" spc="-1" strike="noStrike">
                <a:solidFill>
                  <a:srgbClr val="000000"/>
                </a:solidFill>
                <a:latin typeface="VNI-Times"/>
              </a:rPr>
              <a:t>(Horizontal Integ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chieàu doï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Vertical Integration)</a:t>
            </a:r>
            <a:endParaRPr b="0" lang="en-US" sz="12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veà phía tröôùc (Forward)</a:t>
            </a:r>
            <a:endParaRPr b="0" lang="en-US" sz="12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veà phía sau (Backward)</a:t>
            </a:r>
            <a:endParaRPr b="0" lang="en-US" sz="1200" spc="-1" strike="noStrike">
              <a:solidFill>
                <a:srgbClr val="000000"/>
              </a:solidFill>
              <a:latin typeface="Times New Roman"/>
            </a:endParaRPr>
          </a:p>
        </p:txBody>
      </p:sp>
      <p:sp>
        <p:nvSpPr>
          <p:cNvPr id="95" name=""/>
          <p:cNvSpPr/>
          <p:nvPr/>
        </p:nvSpPr>
        <p:spPr>
          <a:xfrm>
            <a:off x="2971800" y="3108240"/>
            <a:ext cx="2971800" cy="1616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A DAÏNG HOÙ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a:t>
            </a:r>
            <a:r>
              <a:rPr b="0" lang="en-US" sz="1200" spc="-1" strike="noStrike">
                <a:solidFill>
                  <a:srgbClr val="000000"/>
                </a:solidFill>
                <a:latin typeface="VNI-Times"/>
              </a:rPr>
              <a:t>(DIVERSIF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a daïng hoùa ñoàng taâ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ncentric Diversific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a daïng hoùa keát khoái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nglomerate Diversification)</a:t>
            </a:r>
            <a:endParaRPr b="0" lang="en-US" sz="1200" spc="-1" strike="noStrike">
              <a:solidFill>
                <a:srgbClr val="000000"/>
              </a:solidFill>
              <a:latin typeface="Times New Roman"/>
            </a:endParaRPr>
          </a:p>
        </p:txBody>
      </p:sp>
      <p:sp>
        <p:nvSpPr>
          <p:cNvPr id="96" name=""/>
          <p:cNvSpPr/>
          <p:nvPr/>
        </p:nvSpPr>
        <p:spPr>
          <a:xfrm>
            <a:off x="6172200" y="3108240"/>
            <a:ext cx="2743200" cy="16160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LIEÂN KEÁ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OPER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Lieân doan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Joint Venture)</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Lieân minh/lieân keá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a:t>
            </a:r>
            <a:r>
              <a:rPr b="0" lang="en-US" sz="1200" spc="-1" strike="noStrike">
                <a:solidFill>
                  <a:srgbClr val="000000"/>
                </a:solidFill>
                <a:latin typeface="VNI-Times"/>
              </a:rPr>
              <a:t>(Alliance)</a:t>
            </a:r>
            <a:endParaRPr b="0" lang="en-US" sz="1200" spc="-1" strike="noStrike">
              <a:solidFill>
                <a:srgbClr val="000000"/>
              </a:solidFill>
              <a:latin typeface="Times New Roman"/>
            </a:endParaRPr>
          </a:p>
        </p:txBody>
      </p:sp>
      <p:sp>
        <p:nvSpPr>
          <p:cNvPr id="97" name=""/>
          <p:cNvSpPr/>
          <p:nvPr/>
        </p:nvSpPr>
        <p:spPr>
          <a:xfrm>
            <a:off x="2971800" y="5181480"/>
            <a:ext cx="2971800" cy="134784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SUY GIAÛM  (RETRENCH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uûng coá  (Turnaround)</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Giaûm ñaàu tö (Divestiture)</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hanh lyù (Liquidation)</a:t>
            </a:r>
            <a:endParaRPr b="0" lang="en-US" sz="1200" spc="-1" strike="noStrike">
              <a:solidFill>
                <a:srgbClr val="000000"/>
              </a:solidFill>
              <a:latin typeface="Times New Roman"/>
            </a:endParaRPr>
          </a:p>
        </p:txBody>
      </p:sp>
      <p:sp>
        <p:nvSpPr>
          <p:cNvPr id="98" name=""/>
          <p:cNvSpPr/>
          <p:nvPr/>
        </p:nvSpPr>
        <p:spPr>
          <a:xfrm>
            <a:off x="4495680" y="2666880"/>
            <a:ext cx="0" cy="473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95680" y="472428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019920" y="1905120"/>
            <a:ext cx="1676160" cy="121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143000" y="4724280"/>
            <a:ext cx="1828800" cy="121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1219320" y="1905120"/>
            <a:ext cx="1714320" cy="121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5943600" y="4724280"/>
            <a:ext cx="1752480" cy="121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05E2CA0-1512-44F6-AD65-38B5FCB3DF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haâm nhaäp thò tröôøng </a:t>
            </a:r>
            <a:br>
              <a:rPr sz="3400"/>
            </a:br>
            <a:r>
              <a:rPr b="1" lang="en-US" sz="3400" spc="-1" strike="noStrike">
                <a:solidFill>
                  <a:srgbClr val="ffff00"/>
                </a:solidFill>
                <a:latin typeface="VNI-Helve"/>
              </a:rPr>
              <a:t>(Market Penetr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05"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fontScale="96000"/>
          </a:bodyPr>
          <a:p>
            <a:pPr marL="329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9040" indent="-329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haâm nhaäp thò tröôøng nhaèm laøm taêng thò phaàn cho caùc saûn phaåm/dòch vuï hieän coù trong caùc thò tröôøng hieän coù baèng nhöõng noã löïc tieáp thò lôùn hôn.</a:t>
            </a:r>
            <a:endParaRPr b="0" lang="en-US" sz="2800" spc="-1" strike="noStrike">
              <a:solidFill>
                <a:srgbClr val="000000"/>
              </a:solidFill>
              <a:latin typeface="VNI-Helve"/>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9040" indent="-329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m taêng suaát söû duïng cuûa khaùch haøng hieän taïi</a:t>
            </a: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uùt khaùch haøng cuûa ñoái thuû caïnh tranh</a:t>
            </a: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uùt khaùch haøng chöa söû duïng saûn phaåm</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F74C6B30-CD3A-4F3E-94E2-B94C4C98A3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phaùt trieån thò tröôøng </a:t>
            </a:r>
            <a:br>
              <a:rPr sz="3400"/>
            </a:br>
            <a:r>
              <a:rPr b="1" lang="en-US" sz="3400" spc="-1" strike="noStrike">
                <a:solidFill>
                  <a:srgbClr val="ffff00"/>
                </a:solidFill>
                <a:latin typeface="VNI-Helve"/>
              </a:rPr>
              <a:t>(Market Development Strategy)</a:t>
            </a:r>
            <a:endParaRPr b="1" i="1" lang="en-US" sz="3400" spc="-1" strike="noStrike">
              <a:solidFill>
                <a:srgbClr val="ffff00"/>
              </a:solidFill>
              <a:latin typeface="VNI-Helve"/>
            </a:endParaRPr>
          </a:p>
        </p:txBody>
      </p:sp>
      <p:sp>
        <p:nvSpPr>
          <p:cNvPr id="10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ùt trieån thò tröôøng laø noã löïc ñöa saûn phaåm/dòch vuï hieän coù vaøo nhöõng thò tröôøng môùi</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thò tröôøng veà ñòa lyù</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uùt phaân khuùc khaùc cuûa thò tröôø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191559E5-7F8C-438D-AF56-27C8A61BED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phaùt trieån saûn phaåm </a:t>
            </a:r>
            <a:br>
              <a:rPr sz="3400"/>
            </a:br>
            <a:r>
              <a:rPr b="1" lang="en-US" sz="3400" spc="-1" strike="noStrike">
                <a:solidFill>
                  <a:srgbClr val="ffff00"/>
                </a:solidFill>
                <a:latin typeface="VNI-Helve"/>
              </a:rPr>
              <a:t>(Product Developmen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0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ùt trieån saûn phaåm nhaèm taêng doanh thu baèng vieäc caûi tieán hoaëc söûa ñoåi saûn phaåm/dòch vuï hieän taïi.</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phaùt trieån saûn phaåm laø noã löïc keùo daøi voøng ñôøi saûn phaåm hioeän taïi vaø khai thaùc uy tín nhaõn hieäu.</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tính naêng môùi cuûa saûn phaåm</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veà chaát löôïng saûn phaåm</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kieåu daùng / kích thöôùc</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3224CCEA-5127-4E6F-8B4B-8F04545EC4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aûi tieán saûn phaåm </a:t>
            </a:r>
            <a:br>
              <a:rPr sz="3400"/>
            </a:br>
            <a:r>
              <a:rPr b="1" lang="en-US" sz="3400" spc="-1" strike="noStrike">
                <a:solidFill>
                  <a:srgbClr val="ffff00"/>
                </a:solidFill>
                <a:latin typeface="VNI-Helve"/>
              </a:rPr>
              <a:t>(Product Innov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1"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aûi tieán saûn phaåm nhaèm laøm taêng doanh thu baèng saûn phaåm môùi hoaëc saûn phaåm ñaõ ñöôïc caûi tieá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aûi tieán saûn phaåm laø noã löïc taïo ra voøng ñôøi saûn phaåm môùi</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àu tö nghieân cöùu caûi tieán saûn phaåm </a:t>
            </a:r>
            <a:r>
              <a:rPr b="0" lang="en-US" sz="2800" spc="-1" strike="noStrike">
                <a:solidFill>
                  <a:srgbClr val="000000"/>
                </a:solidFill>
                <a:latin typeface="Wingdings"/>
                <a:ea typeface="Wingdings"/>
              </a:rPr>
              <a:t></a:t>
            </a:r>
            <a:r>
              <a:rPr b="0" lang="en-US" sz="2800" spc="-1" strike="noStrike">
                <a:solidFill>
                  <a:srgbClr val="000000"/>
                </a:solidFill>
                <a:latin typeface="VNI-Helve"/>
              </a:rPr>
              <a:t> Ruûi ro</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A877E89-095D-465D-A5EA-125ED1D8C5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ích hôïp theo chieàu ngang (Horizontal Integr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3"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ích hôïp theo chieàu ngang laø tìm kieám quyeàn sôû höõu hoaëc kieåm soaùt ñoái vôùi caùc ñoái thuû caïnh tranh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o pheùp taêng hieäu quaû veà phaïm vi vaø laøm taêng trao ñoåi caùc nguoàn löïc vaø naêng lö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2DF7F3E-3510-4320-89CD-9D9E0136A1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17:41Z</dcterms:modified>
  <cp:revision>26</cp:revision>
  <dc:subject/>
  <dc:title>PowerPoint Presentation</dc:title>
</cp:coreProperties>
</file>